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E56A7-219F-41C6-BE87-98A550C9AD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306696A6-802C-4CEC-95E9-AC717CF124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834A9-DD32-4129-AF52-5F8102338CA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D1D35-54B7-4B44-AC7D-E440A519EA9B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4A202-05C5-4BE8-BF31-58E38CBDE47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14B01-BC8B-4012-B27A-C7D8A397800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D1966-981C-49EB-8427-A95D030339E8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9BE6C-E659-4CCC-9240-5666CDD25A9B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EED69-EB21-4DC4-9CC9-8CFCFABB1305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7A730-6981-4406-A944-3469539725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9F9DB-D0F8-4031-A715-DB25C81EB9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78883-8CC5-4191-8CD7-179355E468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442D8-52E3-44C5-B8F0-C41F380E5A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B14F7-F7B0-4E14-8CBA-06149A68C1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F5D7A-BACB-4E5D-8202-02B431CDC2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BA9D6-3AC4-4EDA-A795-9A5FF7800E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1D9C4-50E0-4ED2-8A5F-5067A5088B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48ACA-7258-46C3-8680-2E72E88998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9AD17-3046-48C7-83E9-6C4EFADF4C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2F1D4-EEE2-48C5-9959-F5C4ED57A5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2DFAD-123D-4AB0-BB36-AC5F284AF9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88A0-8771-4E53-98AD-1F2254B68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>
            <a:off x="533520" y="1447920"/>
            <a:ext cx="8229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4" name="Picture 12" descr="logo-rotunda"/>
          <p:cNvPicPr/>
          <p:nvPr/>
        </p:nvPicPr>
        <p:blipFill>
          <a:blip r:embed="rId2"/>
          <a:stretch/>
        </p:blipFill>
        <p:spPr>
          <a:xfrm>
            <a:off x="685800" y="6086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vee@virginia.ed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4DB8-D876-44F0-AC88-BCECE780B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view of NSF OCI EAGER an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SF OCI SDCI projec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ie Li, Zhengyang Liu, and Malathi Veeraraghav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y of Virgin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Comic Sans MS"/>
                <a:hlinkClick r:id="rId1"/>
              </a:rPr>
              <a:t>{jl3yh, zl4ef, mvee}@virginia.ed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rch 22, 20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2133720" y="5176800"/>
            <a:ext cx="5715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This work was carried out as part of NSF sponsored research projects, OCI-1038058 and OCI-1127340 </a:t>
            </a:r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RSC dat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1FD4-E157-4F14-9B47-4D66EE2B51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4" name="Content Placeholder 2"/>
          <p:cNvSpPr/>
          <p:nvPr/>
        </p:nvSpPr>
        <p:spPr>
          <a:xfrm>
            <a:off x="457200" y="1523880"/>
            <a:ext cx="8153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GridFTP transfers from NERSC DTN servers that &gt; 100 MB in one month (Sept. 2010)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otal number of transfers: 124236 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GridFTP usage statistics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85" name="Picture 33" descr=""/>
          <p:cNvPicPr/>
          <p:nvPr/>
        </p:nvPicPr>
        <p:blipFill>
          <a:blip r:embed="rId1"/>
          <a:stretch/>
        </p:blipFill>
        <p:spPr>
          <a:xfrm>
            <a:off x="1828800" y="2971800"/>
            <a:ext cx="5372280" cy="282888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1324080" y="6183360"/>
            <a:ext cx="659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anks to Brent Draney, Jing Tie and Ian Foster for the GridFTP data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RSC data session analysi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tained NERSC data from Globus (Ian Foster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usage stats reported to Globus does not include dest IP address (privacy reason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not group transfers into sess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ing with Brent Draney and Jason Hick, NERSC, to have them assign someone to run our analysis co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9573-052E-41EF-9957-D59687C3D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Usage of dynamic VC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percentage of sessions are long-lived even if rate of the transfers is assumed to be hig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fore dynamic VCs can be setu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ally, VC setup delay should be reduc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ynamic VCs important for inter-domain science flow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net – Hurricane Electric experie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2F63-D0AA-419E-9849-0E39367AD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idFTP transfe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alyzed GridFTP usage statistics to answer two question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 the high-throughput file transfer sessions long enough to justify VC setup delay (current number: 1 min)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0024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LAC and NCAR data analys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0024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quartile throughput and 10 mins for du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4304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s throughput variance caused by competing IP-routed network traffic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00240" indent="-343080"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ERSC data analys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8D74-0386-425B-8006-CE94C12244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roughput varianc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3CAD-CFC5-4AD3-9586-B8E5B350E1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8" name="Content Placeholder 2"/>
          <p:cNvSpPr/>
          <p:nvPr/>
        </p:nvSpPr>
        <p:spPr>
          <a:xfrm>
            <a:off x="685800" y="43434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re were 145 file transfers of size 32 GB to ORNL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me round-trip time (RTT), bottleneck link rate and packet loss rate 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QR (Inter-quartile range) measure of variance is 695 Mbps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an explanation for this variance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99" name="Picture 31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5436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tential causes of throughput varia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characteristic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TT, bottleneck link rate, packet loss r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ber of strip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ber of parallel TCP strea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ime-of-day depend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current GridFTP transf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twork link utilization (SNMP dat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PU usage, I/O usage on servers at the two en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E446-6469-4C65-B205-C303727CEF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cxnSp>
        <p:nvCxnSpPr>
          <p:cNvPr id="103" name="Straight Arrow Connector 2"/>
          <p:cNvCxnSpPr/>
          <p:nvPr/>
        </p:nvCxnSpPr>
        <p:spPr>
          <a:xfrm>
            <a:off x="685440" y="152352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4" name="TextBox 3"/>
          <p:cNvSpPr/>
          <p:nvPr/>
        </p:nvSpPr>
        <p:spPr>
          <a:xfrm rot="16200000">
            <a:off x="-481320" y="2122200"/>
            <a:ext cx="16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me for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45 transfers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ime-of-day dependenc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ERSC 32 GB: same path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Content Placeholder 5" descr="timeofday-throughput-32G.png"/>
          <p:cNvPicPr/>
          <p:nvPr/>
        </p:nvPicPr>
        <p:blipFill>
          <a:blip r:embed="rId1"/>
          <a:stretch/>
        </p:blipFill>
        <p:spPr>
          <a:xfrm>
            <a:off x="304920" y="1371600"/>
            <a:ext cx="4724280" cy="4724280"/>
          </a:xfrm>
          <a:prstGeom prst="rect">
            <a:avLst/>
          </a:prstGeom>
          <a:ln w="0">
            <a:noFill/>
          </a:ln>
        </p:spPr>
      </p:pic>
      <p:sp>
        <p:nvSpPr>
          <p:cNvPr id="107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9D66-7177-45E2-A326-536E1E9D92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8" name="Content Placeholder 2"/>
          <p:cNvSpPr/>
          <p:nvPr/>
        </p:nvSpPr>
        <p:spPr>
          <a:xfrm>
            <a:off x="5257800" y="2438280"/>
            <a:ext cx="3429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wo sets of transfers: 2 AM and 8 AM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gher throughput levels on some 2 AM transfers 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variance even among same time-of-day flows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ep. on concurrent transfers: Predicted throughpu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Slide Number Placeholder 2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08F2-003D-4889-865B-1FBED4602B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111" name="Picture 3" descr="step.png"/>
          <p:cNvPicPr/>
          <p:nvPr/>
        </p:nvPicPr>
        <p:blipFill>
          <a:blip r:embed="rId1"/>
          <a:stretch/>
        </p:blipFill>
        <p:spPr>
          <a:xfrm>
            <a:off x="1687680" y="121932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5116680" y="2514600"/>
            <a:ext cx="2476440" cy="819000"/>
          </a:xfrm>
          <a:prstGeom prst="rect">
            <a:avLst/>
          </a:prstGeom>
          <a:ln w="0">
            <a:noFill/>
          </a:ln>
        </p:spPr>
      </p:pic>
      <p:sp>
        <p:nvSpPr>
          <p:cNvPr id="113" name="Content Placeholder 2"/>
          <p:cNvSpPr/>
          <p:nvPr/>
        </p:nvSpPr>
        <p:spPr>
          <a:xfrm>
            <a:off x="1219320" y="4800600"/>
            <a:ext cx="69339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nd number of concurrent transfers from GridFTP logs for i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32 GB GridFTP transfer: NERSC end only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termine predicted throughput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duration of j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terval of i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ransfer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number of concurrent transfers in j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terval of ith transfer 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pendence on concurrent transfers (NERSC 32 GB transfer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5" name="Content Placeholder 7" descr="predicted-throughput-by-transfer.png"/>
          <p:cNvPicPr/>
          <p:nvPr/>
        </p:nvPicPr>
        <p:blipFill>
          <a:blip r:embed="rId1"/>
          <a:stretch/>
        </p:blipFill>
        <p:spPr>
          <a:xfrm>
            <a:off x="380880" y="146988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16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5E77-1414-408C-B733-E7F0191E01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117" name="Picture 8" descr="predicted-throughput-by-transfer-zoom1.png"/>
          <p:cNvPicPr/>
          <p:nvPr/>
        </p:nvPicPr>
        <p:blipFill>
          <a:blip r:embed="rId2"/>
          <a:stretch/>
        </p:blipFill>
        <p:spPr>
          <a:xfrm>
            <a:off x="4923000" y="1469880"/>
            <a:ext cx="2697120" cy="2698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predicted-throughput-by-transfer-zoom2.png"/>
          <p:cNvPicPr/>
          <p:nvPr/>
        </p:nvPicPr>
        <p:blipFill>
          <a:blip r:embed="rId3"/>
          <a:stretch/>
        </p:blipFill>
        <p:spPr>
          <a:xfrm>
            <a:off x="4923000" y="4038480"/>
            <a:ext cx="2705040" cy="27054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0"/>
          <p:cNvSpPr/>
          <p:nvPr/>
        </p:nvSpPr>
        <p:spPr>
          <a:xfrm>
            <a:off x="1857600" y="5699160"/>
            <a:ext cx="3157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Correlation seen for some transfers</a:t>
            </a:r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But overall correlation low (0.03)</a:t>
            </a:r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expl: Other apps besides GridFTP</a:t>
            </a:r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cxnSp>
        <p:nvCxnSpPr>
          <p:cNvPr id="120" name="Straight Arrow Connector 12"/>
          <p:cNvCxnSpPr/>
          <p:nvPr/>
        </p:nvCxnSpPr>
        <p:spPr>
          <a:xfrm flipV="1">
            <a:off x="3965400" y="3183840"/>
            <a:ext cx="958320" cy="25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1" name="Straight Arrow Connector 14"/>
          <p:cNvCxnSpPr/>
          <p:nvPr/>
        </p:nvCxnSpPr>
        <p:spPr>
          <a:xfrm flipV="1">
            <a:off x="3965400" y="5409720"/>
            <a:ext cx="9583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2" name="Freeform 22"/>
          <p:cNvSpPr/>
          <p:nvPr/>
        </p:nvSpPr>
        <p:spPr>
          <a:xfrm>
            <a:off x="1477800" y="5369040"/>
            <a:ext cx="2332080" cy="1390680"/>
          </a:xfrm>
          <a:custGeom>
            <a:avLst/>
            <a:gdLst>
              <a:gd name="textAreaLeft" fmla="*/ 0 w 2332080"/>
              <a:gd name="textAreaRight" fmla="*/ 2332440 w 23320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2332418" h="1390885">
                <a:moveTo>
                  <a:pt x="2332418" y="1069552"/>
                </a:moveTo>
                <a:cubicBezTo>
                  <a:pt x="2179464" y="1169466"/>
                  <a:pt x="1912955" y="1390885"/>
                  <a:pt x="1570293" y="1375659"/>
                </a:cubicBezTo>
                <a:cubicBezTo>
                  <a:pt x="1227631" y="1360433"/>
                  <a:pt x="538162" y="1207473"/>
                  <a:pt x="276446" y="978196"/>
                </a:cubicBezTo>
                <a:cubicBezTo>
                  <a:pt x="14731" y="748920"/>
                  <a:pt x="1772" y="40315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lation with SNMP dat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95320" y="3533400"/>
            <a:ext cx="777240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ot SNMP data for ESnet links on NERSC-ORNL pa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NMP raw byte counts: 30 sec poll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sume GridFTP bytes uniformly distributed over du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lusion: GridFTP bytes dominate and are not affected by other transfers – consistent with alpha behavi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of VCs may not solve throughput variance probl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EE61-F755-4C2B-AA2D-AC1A63148B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2662920" y="6183360"/>
            <a:ext cx="39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anks to Jon Dugan for the SNMP data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685800" y="1990800"/>
            <a:ext cx="4390920" cy="1438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4781520" y="1990800"/>
            <a:ext cx="4362480" cy="15429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8"/>
          <p:cNvSpPr/>
          <p:nvPr/>
        </p:nvSpPr>
        <p:spPr>
          <a:xfrm>
            <a:off x="865800" y="1447920"/>
            <a:ext cx="390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rrelation between GridFTP bytes and 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NMP reported bytes 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0" name="TextBox 9"/>
          <p:cNvSpPr/>
          <p:nvPr/>
        </p:nvSpPr>
        <p:spPr>
          <a:xfrm>
            <a:off x="5088600" y="1447920"/>
            <a:ext cx="390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rrelation between GridFTP bytes and 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ot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flow bytes 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DCI Project Re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analysis of scientists’ file transfer lo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 Gbps testing from NERSC to ANL on ANI testb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ur ANI 100G testbed experi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going 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GER Project Re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alysis and selection of a network service for the UCAR scientific data distribution projec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ign and implementation of the Virtual Circuit Multicast Transport Protocol (VCMTP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YNES particip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1477-4586-4B5F-B456-EEDA09664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till pending fo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is variance stud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the NERSC-ORNL transf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ed SNMP data for links inside NERSC and inside ORN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ed CPU and I/O usage data at the two serv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on belief: cause of variance is file system ac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ing nodes write to file systems while DTNs read file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king with Brent Draney and Jason Hick, NERSC, and Galen Shipman, ORNL, for site d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304C-F847-42B9-BC1E-92D864BDC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CAR-NIC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roughput varianc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240" y="52578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ear dependence on number of strip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CAR reduced number of servers from 3 to 1 in 2009-2011 perio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9838-FA9A-4989-8382-073B0D214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143000" y="1508040"/>
            <a:ext cx="6831000" cy="38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n a set of controlled experiments on ANI testbed and experiment with tools for obtaining CPU usage and disk I/O (file system) usage measurements for regression analysis with GridFTP transfer throughpu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trument servers at sites and collect data to explain causes of vari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RSC-ORNL: Jason Hick and Galen Shipm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LAC-BNL: Yee Ting Li and Scott Bradle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CAR-NICS: John Dennis and Victor Hazelw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6653-395E-4724-8DDF-4F7FE3182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DCI Project Re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analysis of CESM scientists’ lo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00 Gbps testing from NERSC to ANL on ANI testb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Our ANI 100G testbed experi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going 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GER Project Re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alysis and selection of a network service for the UCAR scientific data distribution projec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ign and implementation of the Virtual Circuit Multicast Transport Protocol (VCMTP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YNES particip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9AF8-DD6F-4D56-978E-B97B5FDD6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I 100G Testbe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6E6E-221A-45B3-A7F5-C56F02809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733320" y="1219320"/>
            <a:ext cx="7724880" cy="56386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 rot="16200000">
            <a:off x="6188040" y="3311640"/>
            <a:ext cx="47880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Gill Sans"/>
              </a:rPr>
              <a:t>Brian Tierney DOE PI meeting, March 1-2, 2012</a:t>
            </a:r>
            <a:endParaRPr b="1" lang="en-US" sz="16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I 100G Testbed Experime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566120" cy="7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34272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formance: 48.6ms RTT, 97.9Gbps aggregate TCP throughput with 10 TCP strea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534960" y="2616120"/>
            <a:ext cx="8074080" cy="31878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1676520" y="6000840"/>
            <a:ext cx="62481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Gill Sans"/>
              </a:rPr>
              <a:t>Brian Tierney’s DOE PI meeting talk, March 1-2, 2012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Gill Sans"/>
              </a:rPr>
              <a:t>Work done by Eric Pouyol and Brian Tierney, ESnet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I 100G Testbed Experime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228600" y="1660680"/>
            <a:ext cx="8758080" cy="43416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4"/>
          <p:cNvSpPr/>
          <p:nvPr/>
        </p:nvSpPr>
        <p:spPr>
          <a:xfrm>
            <a:off x="1676520" y="6000840"/>
            <a:ext cx="62481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Gill Sans"/>
              </a:rPr>
              <a:t>Brian Tierney’s DOE PI meeting talk, March 1-2, 2012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UVA’s ANI testbed experiments to da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idFTP, iperf and nuttcp transfers between NERSC and ANL (up to 30 Gbps; difficult to reserve whole testbed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PU usage becomes the limiting factor of throughput under high bandwidt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idFTP client utilizes 100% CPU when throughput is 5.4Gbps; need second co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perf and nuttcp: 34% CPU for 9.4 Gbp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9B9F-1451-4D19-8820-74FCA1BB8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idFTP fast option tes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ata size: 128 MB to 8GB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01640" y="1599840"/>
            <a:ext cx="7835760" cy="18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34272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“-fast” option of GridFTP relieves pressure on CPU on client side (still reaches 100% on server side when throughput reaches 9.4Gbp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4272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lusion: need to experiment with RNICs and verbs interface (TCP/IP in O/S consumes CPU cycl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787320" y="3753000"/>
            <a:ext cx="3579840" cy="215244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4"/>
          <p:cNvSpPr/>
          <p:nvPr/>
        </p:nvSpPr>
        <p:spPr>
          <a:xfrm>
            <a:off x="1295280" y="6137280"/>
            <a:ext cx="331308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Gill Sans"/>
              </a:rPr>
              <a:t>CPU Usage (memory-to-memory transfer, NERSC-ANL)</a:t>
            </a:r>
            <a:endParaRPr b="1" lang="en-US" sz="10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4940280" y="3753000"/>
            <a:ext cx="3597120" cy="21603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5081760" y="6137280"/>
            <a:ext cx="331128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Gill Sans"/>
              </a:rPr>
              <a:t>Throughput (memory-to-memory transfer, NERSC-ANL)</a:t>
            </a:r>
            <a:endParaRPr b="1" lang="en-US" sz="1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I 100G testbed experime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3427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nned for March 23, 2012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3672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CE across WAN: Bob Russell’s programs for latency, throughput, CPU utiliz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3672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idFTP with UD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427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xt step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3672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 verbs interface module to GridFTP (UNH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3672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st GridFTP across RoCE (nersc-diskpt3 to anl-mempt3) with wide-area V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ublica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. Li, M. Veeraraghavan, M. Manley and S. Emmerson, “Analysis and selection of a network service for a scientific data distribution project,” Proc. IEEE CMC 2012, May 20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. Li, M. Veeraraghavan, “A Reliable Message Multicast Transport Protocol for Virtual Circuits,” Proc. IEEE CMC 2012, May 20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. Liu, M. Veeraraghavan, Z. Yan, C. Tracy, J. Tie, I. Foster and J. Dennis, “Science traffic characterization and network service selection,” submitted to IEEE HPSR 20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. Yan, C. Tracy, M. Veeraraghavan, “A Hybrid Network Traffic Engineering System,” submitted to IEEE HPSR 20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F78F-7CB2-4D83-9F68-F42611B63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lated work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S API: UNH (Russell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CI: ORNL (Atchley, Shipma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TS: Ohio State Univ (DK Panda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SP: Delaware/IU (Kissel/Swany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DT and TCP/IP: IPoIB and SD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C796-7232-44EB-92EE-C25F0DA33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ntra-datacenter work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Carver or Lawrencium, NERSC, and Cray (kraken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B clusters, and Seastar, Gemini interconne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H will develop plan for data collection, and instru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CAR will run CESM apps and benchmar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VA will analyze da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H is developing course modu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E1A3-3D9D-4C10-84CA-E9E7CA4D0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DCI Project Re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analysis of scientists’ file transfer lo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 Gbps testing from NERSC to ANL on ANI testb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ur ANI 100G testbed experi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going 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AGER Project Re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alysis and selection of a network service for the UCAR scientific data distribution projec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ign and implementation of the Virtual Circuit Multicast Transport Protocol (VCMTP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YNES particip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6611-2935-4201-815A-0B83D9494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AGER project motiv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rge scale scientific data sets are increasingly distributed to geographically dispersed research organizations/scientis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 types of network servi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P-routed service vs. Virtual circu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cast vs. Multica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2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blem stat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is the best network service for scientific data distribution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67EC-4382-48E7-8F80-71C3A2806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P-routed serv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biquitou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fers reliable data delivery using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ic circuit serv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ffers a dedicated circuit between two or more endpoints for a pre-specified du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ynamic circuit service (DC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nect to any other DCS subscriber for rate-guaranteed communications for specified duration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earch-and-education network (REN) and commercial providers now offer dynamic circuit serv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7549-49EF-4153-9968-DCBD4F886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Data Distribution (IDD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teorology data distribution project run by the University Corporation for Atmospheric Research (UCA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ar real-time data distribution system to over 160 institu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ftware called Local Data Manager (LDM) is used for data distribu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ver 30 types of scientific data products (feedtypes) are distributed using LD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E56B-45FB-4EF9-9851-0C0D842EE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alysis of the CONDUIT Feedtyp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066680" y="5375160"/>
            <a:ext cx="7577280" cy="11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tal size per day: ~60 G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ak throughput: 250 MB per minute (33.3 Mbp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ss than 2% of silence periods are larger than 1 seco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ECC5-C6D1-40A4-869F-4060964CF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187" name="Picture 5" descr="CONDUIT.png"/>
          <p:cNvPicPr/>
          <p:nvPr/>
        </p:nvPicPr>
        <p:blipFill>
          <a:blip r:embed="rId1"/>
          <a:stretch/>
        </p:blipFill>
        <p:spPr>
          <a:xfrm>
            <a:off x="871560" y="1676520"/>
            <a:ext cx="7586640" cy="36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DUIT Distribution Topolog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066680" y="5257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4 receivers are directly connected to the UCAR IDD servers (the maximum fan-out numb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ndwidth requirement: 104 * 33.3 Mbps = 3.5 G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957B-31F7-46DA-AC6B-D2BCCFD7F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191" name="Picture 6" descr="CONDUIT_topology.png"/>
          <p:cNvPicPr/>
          <p:nvPr/>
        </p:nvPicPr>
        <p:blipFill>
          <a:blip r:embed="rId1"/>
          <a:stretch/>
        </p:blipFill>
        <p:spPr>
          <a:xfrm>
            <a:off x="380880" y="1625760"/>
            <a:ext cx="4419720" cy="343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"/>
          <p:cNvGraphicFramePr/>
          <p:nvPr/>
        </p:nvGraphicFramePr>
        <p:xfrm>
          <a:off x="5029200" y="2133720"/>
          <a:ext cx="3787920" cy="2103480"/>
        </p:xfrm>
        <a:graphic>
          <a:graphicData uri="http://schemas.openxmlformats.org/drawingml/2006/table">
            <a:tbl>
              <a:tblPr/>
              <a:tblGrid>
                <a:gridCol w="2568600"/>
                <a:gridCol w="12193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ameter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number of  Distinct Host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3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 Sender Host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 Receiver Host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. Fan-out Number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alysis of the NEXRAD2 Feedtyp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990360" y="51814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 size per day: ~56 G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ak throughput: 58 MB/minute (7.8 Mbps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most all silence periods are less than 1 secon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BC9D-C212-4D63-A4F6-4212FA38E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196" name="Picture 4" descr="NEXRAD2.png"/>
          <p:cNvPicPr/>
          <p:nvPr/>
        </p:nvPicPr>
        <p:blipFill>
          <a:blip r:embed="rId1"/>
          <a:stretch/>
        </p:blipFill>
        <p:spPr>
          <a:xfrm>
            <a:off x="1447920" y="1676520"/>
            <a:ext cx="670536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XRAD2 Distribution Topolog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8479-1481-45B8-9CE1-C28975528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066320" y="518112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DD servers at UCAR directly deliver NEXRAD2 data to 55 receiv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ndwidth requirement: 55 * 7.8 Mbps = 429 M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029200" y="2514600"/>
          <a:ext cx="3787920" cy="2103480"/>
        </p:xfrm>
        <a:graphic>
          <a:graphicData uri="http://schemas.openxmlformats.org/drawingml/2006/table">
            <a:tbl>
              <a:tblPr/>
              <a:tblGrid>
                <a:gridCol w="2568600"/>
                <a:gridCol w="12193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ameter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number of  Distinct Host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 Sender Host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 Receiver Host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. Fan-out Number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</a:tbl>
          </a:graphicData>
        </a:graphic>
      </p:graphicFrame>
      <p:pic>
        <p:nvPicPr>
          <p:cNvPr id="201" name="Picture 7" descr="NEXRAD2_topology.gif"/>
          <p:cNvPicPr/>
          <p:nvPr/>
        </p:nvPicPr>
        <p:blipFill>
          <a:blip r:embed="rId1"/>
          <a:stretch/>
        </p:blipFill>
        <p:spPr>
          <a:xfrm>
            <a:off x="304920" y="1684440"/>
            <a:ext cx="4495680" cy="34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idFTP transfe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alyzed GridFTP usage statistics to answer two question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 the high-throughput file transfer sessions long enough to justify VC setup delay (current number: 1 min)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0024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CAR and SLAC data analys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0024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quartile throughput and 10 mins for du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roughput variance caused by competing IP-routed network traffic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0024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so, VCs useful to guarantee rate for science flo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0024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RSC data analys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7939-1E36-4782-8084-FA36FE94BD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election of A Suitable Network Servic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rent network service used by ID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cast TCP connections over IP-routed path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ta products are effectively sent to the receivers in a round-robin fash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s: service is ubiquitou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: requires UCAR to run 9 servers for IDD; uses 5 Gbps of its access link; data delivery latency sensitive to the number of receiver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4228-7354-4B2A-B85B-2F3B72253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election of A Suitable Network Service (cont.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160" y="152388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tic unicast virtual circuit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ay be good for NEXRAD2, but bad for CONDUIT due to its burstines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tilization will be poor if circuit rates are chosen to be high to keep latency low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ynamic circuit servic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CS can be scheduled for the CONDUIT bursty period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UT the silence periods are too short (mostly less than 1 second) for circuits to be scheduled and set up for use (setup delay ~1 min in today’s REN offerings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DC71-F928-454D-A12C-9B614CB5B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election of A Suitable Network Service (cont.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cast virtual circuit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like IP multicast, no potential data-plane congestion in rate-guaranteed virtual circui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egative acknowledgements (NACKs) use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acket loss due to receive buffer overflows or bit errors will be handled at the end of the multicas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ortant for high-speed multica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Our hypothesis: the throughput for most receivers in a VC multicast group can be independent of the throughput experienced by some slow receivers that incur retransmiss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E28A-ED33-4A1B-B4BA-22FE1468A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2P vs. multicas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2P requires more than one transfer for most of the bloc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cast requires one transfer + retransmissions for lost blocks (small percent with real-time scheduling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2P suitable if file is already available in multiple nodes, but in IDD, files are available only at a single node in the beginning and needs to be distributed quickly before next arriv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B03C-EC98-4323-B230-B0DE03412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DCI Project Re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analysis of scientists’ file transfer lo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 Gbps testing from NERSC to ANL on ANI testb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ur ANI 100G testbed experi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going 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GER Project Re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alysis and selection of a network service for the UCAR scientific data distribution projec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esign and implementation of the Virtual Circuit Multicast Transport Protocol (VCMTP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YNES particip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CF24-E523-42A4-93B4-17E1C2302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quirements for VCMTP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ror control, flow contr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 multicast group should support hundreds of receiv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ign goal: one slow receiver that incurs retransmissions will not decrease the throughput for all receiv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F5E7-4107-4867-A49A-F1C02EE01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VCMTP Key Design Concep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high-speed transfers, multicast whole file before handling retransmiss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uture version: relax to allow fast senders or fast receivers to run retransmission thread in parall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un VCMTP sender/receiver processes in high-priority mode (SCHED_R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creases receive buffer overflow lo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cast TCP connections for retransmiss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gative Acknowledgement (NACK) to avoid positive ACK-implosion probl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cast groups with different send rates serve different groups of receiv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EB8E-3B37-4E14-A6D1-8AEDD394F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VCMTP Prototyp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76B1-43BC-4043-9A56-C2B73287F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225" name="Picture 6" descr="multicast-VC.png"/>
          <p:cNvPicPr/>
          <p:nvPr/>
        </p:nvPicPr>
        <p:blipFill>
          <a:blip r:embed="rId1"/>
          <a:stretch/>
        </p:blipFill>
        <p:spPr>
          <a:xfrm>
            <a:off x="304920" y="1579680"/>
            <a:ext cx="4863960" cy="45162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952880" y="1523520"/>
            <a:ext cx="3670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blocks of a message are encapsulated in UDP packets to be multicast over Eth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locks written to disk using offset (out of sequence writ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eivers send  retransmission requests to the sender over unicast TCP connection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er has multiple retransmission threads each with a unicast TCP connection to a recei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perimental Testbe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ulab Testb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cated at the University of Uta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ver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50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odes (both high-end and low-end) connected by high-end switches and rou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gh-end nodes (D710 series):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2.4 GHz 64-bit Quad Core Xeon E5530, 12 GB RAM, 1 Gbps lin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ow-end nodes (PC600 series)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00MHz Intel Pentium III, 256 MB RAM, 100Mbps lin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1C7D-E511-4E8B-A40B-02D660A17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valuation of Multicast Performa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520" y="1523520"/>
            <a:ext cx="81532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sender multicasts disk files of different sizes to 7 high-end receiver nodes (D710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CMTP is the only user process running on the no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ing rate: 600 M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each file size, the data multicast is repeated 10 runs (7 * 10  = 70 reception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3AF2-9C23-4643-9467-C074A4656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85800" y="3713040"/>
          <a:ext cx="8001000" cy="2382840"/>
        </p:xfrm>
        <a:graphic>
          <a:graphicData uri="http://schemas.openxmlformats.org/drawingml/2006/table">
            <a:tbl>
              <a:tblPr/>
              <a:tblGrid>
                <a:gridCol w="3200400"/>
                <a:gridCol w="1219320"/>
                <a:gridCol w="1218960"/>
                <a:gridCol w="1219320"/>
                <a:gridCol w="1143000"/>
              </a:tblGrid>
              <a:tr h="46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12 MB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 GB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 GB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 GB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vg. (SD) throughput of receptions in no-loss run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79.49 (1.73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74.56 (1.60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88.25 (0.30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82.17 (0.87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vg. (SD) throughput of no-loss receptions in loss run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/A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75.65 (0.81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88.27 (0.74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82.22 (0.98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vg. (SD) throughput of loss receptions in loss run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/A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61.4 (1.73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80.32 (4.94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76.1 (4.43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</a:tbl>
          </a:graphicData>
        </a:graphic>
      </p:graphicFrame>
      <p:sp>
        <p:nvSpPr>
          <p:cNvPr id="234" name="TextBox 1"/>
          <p:cNvSpPr/>
          <p:nvPr/>
        </p:nvSpPr>
        <p:spPr>
          <a:xfrm>
            <a:off x="2179800" y="62118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o degradation in throughput for fast receivers in the presence of slow receivers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idFTP usage sta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each transfer, servers log size, start time, duration, number of parallel streams, stripes, dest I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age stats are sent via UDP to Globus server from site GridFTP serv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ts can be obtained with permission from Globus or the site itself (e.g., NCAR, SLAC, NERSC, BNL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3271-5975-425B-8116-7D7DBEF64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ffects of multitasking and SCHED_RR schedul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en the VCMTP process is running with other processes on the receiver node, packet loss may occur due to resource sharing (CPU, I/O, etc.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Our solution: run the VCMTP process in higher priority than other process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inux provides support for process scheduling with soft real-time priority (SCHED_RR mode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is experiment, one sender multicasts a 128-MB disk file to X low-end receiver nodes (PC600), where 20% of the X nodes run the VCMTP process along with two other CPU-intensive benchmarks (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fsti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rom the UnixBench suit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DBA5-FCD5-4933-9A69-50E83533B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ffects of multitasking and SCHED_RR scheduling (cont.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066680" y="5270400"/>
            <a:ext cx="7391520" cy="15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8 MB file multicast tests with 5, 10, 15, and 20 no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file transfer was repeated 10 times for each exp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 expt: particular set of “slow” nodes (repeat 5 tim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ndard deviations are shown as numbers in the plo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6C79-9162-4570-9F75-FE80514FA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685800" y="1517760"/>
            <a:ext cx="3809880" cy="3801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2"/>
          <a:stretch/>
        </p:blipFill>
        <p:spPr>
          <a:xfrm>
            <a:off x="4597560" y="1517760"/>
            <a:ext cx="380988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685800" y="3025800"/>
            <a:ext cx="3971880" cy="38322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gative of VCMTP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ed to select sending ra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85800" y="1523880"/>
            <a:ext cx="7772400" cy="15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le transfer experiments with single-sender, single-receiver for both TCP and VCMTP (on D710 nod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wo different sending rates (800 Mbps and 600 Mbp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file transfer was repeated 10 tim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5B3A-F5A6-418F-BBBB-B177AA42F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4876920" y="3962520"/>
          <a:ext cx="4038480" cy="182880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00 Mbp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00 Mbp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2 MB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%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46%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GB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26%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.04%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 GB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7%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.63%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 GB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19%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.27%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</a:tbl>
          </a:graphicData>
        </a:graphic>
      </p:graphicFrame>
      <p:sp>
        <p:nvSpPr>
          <p:cNvPr id="248" name="TextBox 8"/>
          <p:cNvSpPr/>
          <p:nvPr/>
        </p:nvSpPr>
        <p:spPr>
          <a:xfrm>
            <a:off x="4876920" y="359244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Arial"/>
                <a:ea typeface="Arial"/>
              </a:rPr>
              <a:t>Avg. Retransmission Rates for VCMTP</a:t>
            </a:r>
            <a:endParaRPr b="1" lang="en-US" sz="16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tency Analysis for TCP vs. VCMT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28600" y="1523880"/>
            <a:ext cx="4952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ider the scenario where a sender sends a message of siz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o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eceiv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ximum throughput supported by the sender is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in{c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, r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}</a:t>
            </a:r>
            <a:r>
              <a:rPr b="0" lang="en-US" sz="2000" spc="-1" strike="noStrike">
                <a:solidFill>
                  <a:srgbClr val="0d0d0d"/>
                </a:solidFill>
                <a:latin typeface="Comic Sans MS"/>
              </a:rPr>
              <a:t>, wher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d0d0d"/>
                </a:solidFill>
                <a:latin typeface="Comic Sans MS"/>
              </a:rPr>
              <a:t> is the link capacity, and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d0d0d"/>
                </a:solidFill>
                <a:latin typeface="Comic Sans MS"/>
              </a:rPr>
              <a:t> is maximum sending rate with 100% resource usage (CPU, IO, etc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d0d0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omic Sans MS"/>
              </a:rPr>
              <a:t>Similarly, maximum throughput supported by a receiver is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in{c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, r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d0d0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omic Sans MS"/>
              </a:rPr>
              <a:t>Any one of these four capacity limitations could be the bottlene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FF25-B788-4693-934D-0FC457E0C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2" name="TextBox 4"/>
          <p:cNvSpPr/>
          <p:nvPr/>
        </p:nvSpPr>
        <p:spPr>
          <a:xfrm>
            <a:off x="5029200" y="172404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d0d0d"/>
                </a:solidFill>
                <a:latin typeface="Comic Sans MS"/>
                <a:ea typeface="Arial"/>
              </a:rPr>
              <a:t>I. Total delay for unicast TCP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1"/>
          <a:stretch/>
        </p:blipFill>
        <p:spPr>
          <a:xfrm>
            <a:off x="5562720" y="2265480"/>
            <a:ext cx="2895480" cy="550800"/>
          </a:xfrm>
          <a:prstGeom prst="rect">
            <a:avLst/>
          </a:prstGeom>
          <a:ln w="0">
            <a:noFill/>
          </a:ln>
        </p:spPr>
      </p:pic>
      <p:sp>
        <p:nvSpPr>
          <p:cNvPr id="254" name="TextBox 7"/>
          <p:cNvSpPr/>
          <p:nvPr/>
        </p:nvSpPr>
        <p:spPr>
          <a:xfrm>
            <a:off x="5029200" y="45925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d0d0d"/>
                </a:solidFill>
                <a:latin typeface="Comic Sans MS"/>
                <a:ea typeface="Arial"/>
              </a:rPr>
              <a:t>II. Total delay for VCMTP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2"/>
          <a:stretch/>
        </p:blipFill>
        <p:spPr>
          <a:xfrm>
            <a:off x="5562720" y="4992840"/>
            <a:ext cx="3124080" cy="574560"/>
          </a:xfrm>
          <a:prstGeom prst="rect">
            <a:avLst/>
          </a:prstGeom>
          <a:ln w="0">
            <a:noFill/>
          </a:ln>
        </p:spPr>
      </p:pic>
      <p:sp>
        <p:nvSpPr>
          <p:cNvPr id="256" name="TextBox 9"/>
          <p:cNvSpPr/>
          <p:nvPr/>
        </p:nvSpPr>
        <p:spPr>
          <a:xfrm>
            <a:off x="5181480" y="3016080"/>
            <a:ext cx="39625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omic Sans MS"/>
                <a:ea typeface="Arial"/>
              </a:rPr>
              <a:t>* When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r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Comic Sans MS"/>
                <a:ea typeface="Arial"/>
              </a:rPr>
              <a:t>s</a:t>
            </a:r>
            <a:r>
              <a:rPr b="0" lang="en-US" sz="1800" spc="-1" strike="noStrike">
                <a:solidFill>
                  <a:srgbClr val="0d0d0d"/>
                </a:solidFill>
                <a:latin typeface="Comic Sans MS"/>
                <a:ea typeface="Arial"/>
              </a:rPr>
              <a:t> is the bottleneck, the total delay for unicast TCP can be reduced by running multiple sender servers in parallel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440" y="152388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der the case where s = 125 MB, n = 50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1 Gbps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10 Gbps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100 Mb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3E08-6E44-4D98-A9A0-962649389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60" name="TextBox 5"/>
          <p:cNvSpPr/>
          <p:nvPr/>
        </p:nvSpPr>
        <p:spPr>
          <a:xfrm>
            <a:off x="304920" y="2554200"/>
            <a:ext cx="4572000" cy="28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omic Sans MS"/>
              </a:rPr>
              <a:t>I. For unicast TCP, r</a:t>
            </a:r>
            <a:r>
              <a:rPr b="0" lang="en-US" sz="1800" spc="-1" strike="noStrike" baseline="-25000">
                <a:solidFill>
                  <a:srgbClr val="0d0d0d"/>
                </a:solidFill>
                <a:latin typeface="Comic Sans MS"/>
              </a:rPr>
              <a:t>s</a:t>
            </a:r>
            <a:r>
              <a:rPr b="0" lang="en-US" sz="1800" spc="-1" strike="noStrike">
                <a:solidFill>
                  <a:srgbClr val="0d0d0d"/>
                </a:solidFill>
                <a:latin typeface="Comic Sans MS"/>
              </a:rPr>
              <a:t> is the bottleneck for the message distribution (although each receiver link capacity is only 100Mbps, the total throughput that can be supported to all receivers is 100 Mbps * 50 = 5 Gbps ).Therefore, the total delay using unicast TCP is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125 MB * 8 * 50 / 1 Gbps = 50 sec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1219320" y="5416560"/>
            <a:ext cx="7391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achieve the same total latency, 5 servers are needed at the sending side for unicast TCP (each sender can simultaneously send the message to 10 receivers) 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62" name="TextBox 8"/>
          <p:cNvSpPr/>
          <p:nvPr/>
        </p:nvSpPr>
        <p:spPr>
          <a:xfrm>
            <a:off x="4876920" y="2554200"/>
            <a:ext cx="42670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I. For VCMTP, the bottleneck for the message multicast is the receiver link capacity </a:t>
            </a:r>
            <a:r>
              <a:rPr b="0" lang="en-US" sz="1800" spc="-1" strike="noStrike">
                <a:solidFill>
                  <a:srgbClr val="0d0d0d"/>
                </a:solidFill>
                <a:latin typeface="Comic Sans MS"/>
              </a:rPr>
              <a:t>(c</a:t>
            </a:r>
            <a:r>
              <a:rPr b="0" lang="en-US" sz="1800" spc="-1" strike="noStrike" baseline="-25000">
                <a:solidFill>
                  <a:srgbClr val="0d0d0d"/>
                </a:solidFill>
                <a:latin typeface="Comic Sans MS"/>
              </a:rPr>
              <a:t>r</a:t>
            </a:r>
            <a:r>
              <a:rPr b="0" lang="en-US" sz="1800" spc="-1" strike="noStrike">
                <a:solidFill>
                  <a:srgbClr val="0d0d0d"/>
                </a:solidFill>
                <a:latin typeface="Comic Sans MS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Hence the total delay is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125 MB * 8 / 100 Mbps = 10 sec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xt steps for analysi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ss ca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 unicast TCP over IP-routed path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ses at routers due to competing traff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w loss rates due to overprovisio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 VCMT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ority scheduling of VCMTP process reduces receive buffer losses to low r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42FB-D2AE-4163-BD17-E246677B8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VCMTP summar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liable multicast transport protocol appears to be scalable if underlying network offers VC serv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-speed transfers requires VCMTP processes to be run in high-priority mode if sender/receivers are multitask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CMTP can both reduce bandwidth usage and the overall delay for some large-scale, long-duration data distribution tas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16AB-903E-48EE-AB57-D6C33AE58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YN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mitted proposal to Internet2 for UVA to become a DYNES end si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ied science users: LHC CMS physicist, Brad Cox, and biologist, Mike Timko at UVA – willing to try DY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DYNES for VCMTP tes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ed logs in multiple no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ed to use NDDI OpenFlow for multipoint (ION for VC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2560-1F9F-46E1-AC2E-CD3130F0C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d “sessions” from transfe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ical scientist uses shell scripts to move “Lots of Small Files (LOSF)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om GridFTP usage stats, need an algorithm to “merge” transfers into sess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e simultaneous transfers; look for last completion t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next transfer’s start time is within 1 minute of completion time, we assume it is part of the same ses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7A0F-C955-4A15-851B-7BB105689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CAR-NICS GridFTP dat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5800" y="1523880"/>
          <a:ext cx="7924680" cy="1925640"/>
        </p:xfrm>
        <a:graphic>
          <a:graphicData uri="http://schemas.openxmlformats.org/drawingml/2006/table">
            <a:tbl>
              <a:tblPr/>
              <a:tblGrid>
                <a:gridCol w="1219320"/>
                <a:gridCol w="1044360"/>
                <a:gridCol w="1131840"/>
                <a:gridCol w="1133640"/>
                <a:gridCol w="1131840"/>
                <a:gridCol w="1020960"/>
                <a:gridCol w="1242720"/>
              </a:tblGrid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Session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n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Qu.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dian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an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rd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Qu.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x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tual size (MB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256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9800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6500 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8900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07000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tual durations (sec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5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8.9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45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29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250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420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9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3AA6-FB8D-4EE6-A0FC-EC80F533FF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0" name="Content Placeholder 2"/>
          <p:cNvSpPr/>
          <p:nvPr/>
        </p:nvSpPr>
        <p:spPr>
          <a:xfrm>
            <a:off x="838080" y="4648320"/>
            <a:ext cx="80773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39840" indent="-339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09-2011, but only two users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lvl="1" marL="339840" indent="-339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x-duration session was 13 hrs 27 mins (48420 s) but size was only 2.4 TB (rate: 410 Mbps)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lvl="1" marL="339840" indent="-339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x-size session (2.7 TB) took 7.5 hours (808 Mbps)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5800" y="3581280"/>
          <a:ext cx="7924680" cy="1011240"/>
        </p:xfrm>
        <a:graphic>
          <a:graphicData uri="http://schemas.openxmlformats.org/drawingml/2006/table">
            <a:tbl>
              <a:tblPr/>
              <a:tblGrid>
                <a:gridCol w="1447920"/>
                <a:gridCol w="815760"/>
                <a:gridCol w="1131840"/>
                <a:gridCol w="1133640"/>
                <a:gridCol w="1131840"/>
                <a:gridCol w="1020960"/>
                <a:gridCol w="1242720"/>
              </a:tblGrid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ransfer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n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Qu.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dian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an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rd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Qu.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x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roughput (Mbps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6.9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68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5.5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1.7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227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2" name="TextBox 5"/>
          <p:cNvSpPr/>
          <p:nvPr/>
        </p:nvSpPr>
        <p:spPr>
          <a:xfrm>
            <a:off x="2426040" y="6399360"/>
            <a:ext cx="430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anks to John Dennis and Matt Woitaszek, NCAR</a:t>
            </a:r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LAC-BNL GridFTP usage logs (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00MB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5800" y="1523880"/>
          <a:ext cx="7924680" cy="1925640"/>
        </p:xfrm>
        <a:graphic>
          <a:graphicData uri="http://schemas.openxmlformats.org/drawingml/2006/table">
            <a:tbl>
              <a:tblPr/>
              <a:tblGrid>
                <a:gridCol w="1219320"/>
                <a:gridCol w="1044360"/>
                <a:gridCol w="1131840"/>
                <a:gridCol w="1133640"/>
                <a:gridCol w="1131840"/>
                <a:gridCol w="1020960"/>
                <a:gridCol w="1242720"/>
              </a:tblGrid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ssion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n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Qu.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dian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an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rd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Qu.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x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tual size (MB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4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33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34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430 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702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95000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tual durations (sec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03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.7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7.8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2.8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2.1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820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9162-2466-480B-BF95-CD12AC7355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6" name="Content Placeholder 2"/>
          <p:cNvSpPr/>
          <p:nvPr/>
        </p:nvSpPr>
        <p:spPr>
          <a:xfrm>
            <a:off x="838080" y="4648320"/>
            <a:ext cx="80773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39840" indent="-339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umber of transfers much larger than NCAR-NICS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lvl="1" marL="339840" indent="-339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quartile throughput much smaller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lvl="1" marL="339840" indent="-339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ote that the session that is “max” from a size perspective is not necessarily the one that is “max” from a duration perspective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3581280"/>
          <a:ext cx="7924680" cy="1011240"/>
        </p:xfrm>
        <a:graphic>
          <a:graphicData uri="http://schemas.openxmlformats.org/drawingml/2006/table">
            <a:tbl>
              <a:tblPr/>
              <a:tblGrid>
                <a:gridCol w="1447920"/>
                <a:gridCol w="815760"/>
                <a:gridCol w="1131840"/>
                <a:gridCol w="1133640"/>
                <a:gridCol w="1131840"/>
                <a:gridCol w="1020960"/>
                <a:gridCol w="1242720"/>
              </a:tblGrid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ansfer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n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Qu.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dian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an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rd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Qu.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x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roughput (Mbps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13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.12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7 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6.3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1.3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30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8" name="TextBox 5"/>
          <p:cNvSpPr/>
          <p:nvPr/>
        </p:nvSpPr>
        <p:spPr>
          <a:xfrm>
            <a:off x="3174840" y="6399360"/>
            <a:ext cx="36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anks to Yee Ting Li and Wei Yang, SLAC </a:t>
            </a:r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% of sessions for which dynamic VCs are suitabl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CAR-NICS (2009-201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17 sessions from 52519 transf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97 sessions &gt;= 100M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3% of &gt;=100MB sessions would &gt; 10mins if they experienced third quartile throughput of 681.7 Mbp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ngest session: 13.5 hrs; size: 2.4TB (410Mbp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x size session: 2.7 TB; dur = 7.5 hours (808Mbp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LAC-BNL (Feb. 10-24, 201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roughput (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quartile: 191 Mbps; max: 1.93 Gbp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233 sessions from 133,346 transf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977 sessions &gt;= 100M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3.4% of sessions would have lasted longer than 10 mins if they had experienced a throughput of 191 M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7D11-87BD-4813-8CAE-B8BAC08B9C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1T22:50:21Z</dcterms:created>
  <dc:creator>Malathi Veeraraghavan</dc:creator>
  <dc:description/>
  <dc:language>en-US</dc:language>
  <cp:lastModifiedBy>Malathi Veeraraghavan</cp:lastModifiedBy>
  <dcterms:modified xsi:type="dcterms:W3CDTF">2012-03-22T15:32:05Z</dcterms:modified>
  <cp:revision>1523</cp:revision>
  <dc:subject/>
  <dc:title>PowerPoint Presentation</dc:title>
</cp:coreProperties>
</file>